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EC20-A509-4361-B4D3-0E94B421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6C0E-9D2E-4D00-B8A7-37611882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3C14-FCE1-42C8-AFA6-A87E0F6D5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2D12-5DA2-4222-8E68-1A1B8D6E4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A454-DE2D-46DC-A47A-6752F192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441C-A8E2-4535-8DEE-9F57532A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513C-EC03-4491-A860-DCAB6AA4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CAB7-D0CF-49E3-8ED2-85122AE3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5E61-4767-4E88-B87C-7F5C02CC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2894-72D2-4B5A-89C0-214062A6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BD53-5BBC-4241-A48F-10C5ACD8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EA42-8CB2-4798-A308-578ADD88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3318-DA48-44F8-B521-F853BCCD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2FDE-57A0-4A8F-A0B6-BA614EBA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36F3-15A4-41AA-8A15-95A30DF1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CCF2-DEBA-49F9-A83C-94EEC1F5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2EA4-A687-47A3-A8F1-582AB61C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9416-BAE6-4644-B5E0-CE6567B2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BB92-E25C-4743-9746-672154C8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1EA7-ECB3-4136-91A3-9F810BD9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C9B8-7B1B-4128-A827-0B6CFA0D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6D57-6029-4419-AD93-E48D76FF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7D70-5D4F-45BF-BDC3-F5FBED25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B03C-7536-4EFA-AE88-2480788D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5AF2-3F57-4E8A-8771-225E96787FF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4391-B952-40AA-9707-649A4D36663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Sir, We Would See Jesus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-Life of Christ-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Quarter 9, Lesson 3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Pages 9-15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Matt. 2:1-23; John 1:1;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Luke 3:23-38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198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5562720" y="1371600"/>
            <a:ext cx="33145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Kingdom of Herod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Great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7162920" cy="5434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2286000" y="0"/>
            <a:ext cx="4362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ollow The Rout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7238880" y="914400"/>
            <a:ext cx="1905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Bethlehe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Jerusale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gyp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Nazareth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Years of Prepar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The visit of the Wise M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(Matt. 2:1-12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ec8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ise men from the east follow His star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ec8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rriving in Jerusalem, they inquire:  “Where is the one born king of the Jews?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ec8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old by King Herod – “find where the child is so that I may worship him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ec8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y follow the star to a house in Bethlehe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ec8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y worship the child and give Him gif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ec8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arned by God not to return to Hero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Years</a:t>
            </a: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 of Preparation</a:t>
            </a:r>
            <a:br>
              <a:rPr sz="48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light into Egypt 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(Matt. 2:13-15)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seph takes Mary, baby, and flees 200 miles south down into Egyp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phesy of Hosea 11:1 fulfill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rod finding out he had been tricked became enraged 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ec8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mmanded his soldiers to go to Bethlehem and kill all young males up to two years ol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he Years of Preparation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The Herodian Family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ather and son both named Antipat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ere governors of the Idumean peopl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ntipater’s son, Herod the Great, was made king of Judea by the Romans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(37-4 B.C.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uilt the great port city of Caesare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uilt aqueduct 13 miles long to water c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built temple in Jerusalem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(20 B.C. - A.D. 70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urdered his father-in-law, his wife, two sons, many others and tried to kill Jesu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he Years of Preparation</a:t>
            </a:r>
            <a:br>
              <a:rPr sz="40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Return to Nazareth (Matt. 2:19-23)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rod has died, Archelaus his son reig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n angel of God commands Joseph to return to Isra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oseph returns to his home town of Nazaret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azarene” comes from Nazar which means shoot or root - see Isa. 11:1;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er. 23:5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77920"/>
            <a:ext cx="8534160" cy="14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Years of Preparation</a:t>
            </a:r>
            <a:br>
              <a:rPr sz="44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hy worship this baby? Who is He? (John 1:1-18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ngels announced His birt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hepherds came to see H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ise men worshiped H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was in the beginning. Always was!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was divin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rough Him all things were creat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egal heir to David’s thron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He is God’s s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Years of Preparation</a:t>
            </a:r>
            <a:br>
              <a:rPr sz="44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ames applied to this bab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esus (Luke 1:31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mmanuel (Matt. 1:23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hrist (Rom. 8:12) (Luke 9:20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essiah (John 4:25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avior (II Tim.1:10)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hief Shepherd (I Pet. 5:4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reat High Priest (Heb. 4:14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n of David (Matt. 9:27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Son of God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(Rom. 1:4)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2:35:03Z</dcterms:created>
  <dc:creator> Tab Vines</dc:creator>
  <dc:description/>
  <dc:language>en-US</dc:language>
  <cp:lastModifiedBy>Frank D Vines</cp:lastModifiedBy>
  <dcterms:modified xsi:type="dcterms:W3CDTF">2006-07-16T12:36:03Z</dcterms:modified>
  <cp:revision>21</cp:revision>
  <dc:subject/>
  <dc:title>Sir, We Would See Jesus</dc:title>
</cp:coreProperties>
</file>